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B4F-A27F-4A6A-B4E1-B3FBCF8D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660-FC94-4B04-AE85-A0BA9EF7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B3D-9B9D-42D5-9F8B-8FA5B187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6BF-8170-40E5-9553-4210A0BA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C5E8-E428-41E8-ABA4-FF88E885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C0AD-CD8B-4F1A-86C0-69CA6F4E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8231-A508-4ACA-A215-0003172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5F02-EB7F-4B5E-B48F-DB528E03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12B9-F5B1-4877-9020-AB133AEA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C198-40B3-4B27-8E4A-3E156A5B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2EEE-DB65-4F05-96C4-70292ECB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CAF-777F-4615-BAD9-EE2D4794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B64D-AB0C-4546-AB7E-8A78D67E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1B6F-AE94-4B11-A353-2E297AD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A829-C064-4D63-9308-110C7076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F2EE-D7CA-4AC7-8662-319096AF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11D7-30E5-4D15-A183-DB1AF155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CEDC-C81B-4589-BCCB-30967D34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D40A-A6C0-4D3F-B1ED-29D7439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7529-F45D-42BC-B0F4-DDCD086C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B367-7388-477E-95F3-EFF85DF2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A8F8-9C9E-439D-96F4-4F37EDA8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ACC-906E-4D33-A65A-37D1292C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7473-C572-4950-8F8A-278E96DE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7794-5D64-4184-892F-E20BA74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51B6-749A-4362-B407-FBE3B408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0054-425F-4501-8615-667E59E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90C8-E399-43BA-8AF0-3DB0AFA5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888D-5FFA-40FC-9023-C0F99609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5273-E50A-4A38-8E47-7400B1F5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8474-0617-4966-8670-8AAB94FF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E217-D4B5-4954-8DE9-9056048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F93DE-B2EA-4703-8142-2E101493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EC2-D9AE-4D6A-8995-D4274C0F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D047B-1748-4ED5-AF5B-9F2A875A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02F5-5ED9-49AA-97E0-59DBE6CA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C42A-1451-4137-AD0A-76A0E518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44A6-492F-4D6F-AA08-B9FE7EE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3FA1-2A9C-498B-8990-F2656C5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C8D0-E3D0-416D-9810-466C2C5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A198-614C-426E-B386-0AD14F6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F05B3-E3AA-4C26-A451-0F9F9807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49BF5-744D-4617-9F70-6CAB06B8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E1861-CAF8-4618-AC0C-B99F5754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9B6-13A8-48A9-96D0-0B8BF0B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A5DC-B735-482D-A396-C5755809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7121-280C-44A8-B18C-20B9D5F8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BE4E-20A9-496C-B3BB-536EBD17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95E6-5EBB-4475-848A-7AE1FFA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D971-4C39-4F86-8BED-EB04E6B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6CF90-CF86-42AE-8449-E2EEAA1D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7B13-BDE2-43A2-ACD5-21B913A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1053A-5922-4D83-BE03-B2D39615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290C-FBDC-4C59-9E4F-7DBBADB0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E2561-93A1-479C-8A51-011825E9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063-DB7F-46A0-8A15-D4D9DE2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1F948-7BC5-4148-BD93-E726E958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C2182-334C-4A2A-A9D3-150803DB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A294-7DD4-45D4-AD1E-8A4BEC67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88F02-54CA-47F2-9B97-11D758D2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7CA3-EEED-42FA-9044-239DF4A2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79285-19E7-49C9-BCE2-45121F3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1DBE-DF0E-4EFF-A05F-ADB0ADA0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9CE9-2E1D-4F6D-B837-004643B3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329D-3481-4237-89CD-4E624166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4201-CA02-4260-B0F7-7A606FC6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CEF-2F7D-4CE8-9CB2-D096E218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A3C8-4E5C-46F0-9EAB-6CA781FD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BA603-E40D-492F-B0AE-10261A76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B18A-73B1-4200-B01F-A7952CC6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A1982-3E7F-40A7-8F5D-A32B6542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056B-57E9-497E-AACA-31B78374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7A0E-74A3-42F3-B8F2-A56AA5F6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11390-B16A-4FB1-8042-4A6C941E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DDA61-22DD-46F9-97B8-8F29B374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CE380-49A7-4380-880B-4595E4E1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05FFF-1C2B-4DC5-8339-75D020B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100-CFB0-457B-9304-CF804E1C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CD0BF-5E39-40E6-ABC6-6A87F0B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A7DD9-52D1-446C-9873-AEC3F239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306F-34E9-4E0F-9C69-DA09EA5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74847-E89E-42E0-807D-B7DAFB54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CA039-BD9F-488E-B683-2C0B4690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8EC-A8D6-41C3-B5EA-163D041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Николь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9 месяцев 2024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сполнение бюджета  для граждан за 9 месяцев 2024 года подготовлен  на основании Постановления Администрации Никольского сельского поселения №66   от 23.10.2024 г.  «Об исполнении бюджета Никольского сельского поселения Торбеевского муниципального района Республики Мордовия за 9 месяцев 2024 года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ЧЕТ ОБ ИСПОЛНЕНИИ БЮДЖЕ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ИСПОЛНЕНИЯ БЮДЖЕТА ПОСЕЛЕНИЯ ЗА 9 МЕСЯЦЕВ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3672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БЮДЖЕТА НИКОЛЬСКОГО СЕЛЬСКОГО ПОСЕЛЕНИЯ ТОРБЕЕВСКОГО МУНИЦИПАЛЬНОГО РАЙОНА РЕСПУБЛИКИ МОРДОВИЯ З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9 МЕСЯЦЕ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4 ГОДА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Объект 2"/>
          <p:cNvGraphicFramePr/>
          <p:nvPr/>
        </p:nvGraphicFramePr>
        <p:xfrm>
          <a:off x="2556000" y="2197080"/>
          <a:ext cx="46386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197080"/>
                    <a:ext cx="46386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392040" y="1822320"/>
          <a:ext cx="8569440" cy="41338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82" name="Rectangle 24"/>
          <p:cNvSpPr/>
          <p:nvPr/>
        </p:nvSpPr>
        <p:spPr>
          <a:xfrm>
            <a:off x="1187280" y="274320"/>
            <a:ext cx="697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НИКО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ЗА 9 МЕСЯЦЕВ20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6783480" y="14526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3"/>
          <p:cNvSpPr/>
          <p:nvPr/>
        </p:nvSpPr>
        <p:spPr>
          <a:xfrm>
            <a:off x="324360" y="618480"/>
            <a:ext cx="87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НИКОЛЬ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01680" y="2141640"/>
          <a:ext cx="8569440" cy="37670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Никольского сельского по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нина Галина Алексе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3, Республика Мордовия, Торбеевский район, с. Никольское, ул. Центральная, д. 1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1-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kolsk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9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90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Николь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1</cp:lastModifiedBy>
  <cp:lastPrinted>2015-12-24T07:26:25Z</cp:lastPrinted>
  <dcterms:modified xsi:type="dcterms:W3CDTF">2024-10-23T13:22:43Z</dcterms:modified>
  <cp:revision>656</cp:revision>
  <dc:subject/>
  <dc:title>ИЖМОРСКИЙ МУНИЦИПАЛЬНЫЙ РАЙОН</dc:title>
</cp:coreProperties>
</file>