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D10-C496-41EE-A7AA-8DBF35B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6AB-60C8-40D8-92FF-CD66C093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073-B501-4AEA-8D0E-5E85E17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A3D-107D-4C11-8A38-F4095557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3A17-DF2A-443A-B0F1-2FD423D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74B-596D-4C88-866C-ADE2975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5AE8-81D7-4969-946F-75D52FCD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EC8-9112-4508-A27E-751F09D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15DF-EE8F-4721-9239-8AABACDE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8A9F-44FA-470C-80CF-C94F70A9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4757-F4C5-4555-A7FF-E5FCEAD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F27-1190-43ED-836D-E33E8C0D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56BB-2A38-4BFA-8A38-3EEE088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07EE-DBEA-401D-8FB1-6CE34BA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B8DD-3C20-44C1-871A-29D50B0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9558-B078-4F81-9086-FE92C4E5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647-53A8-4757-B4A9-AE014DD5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D500-A8A8-4F67-B140-45EF7194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8519-DB65-4EFA-B6F8-4151A2F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9112-3757-4CF3-8F1E-5DC53F7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BABA-A3DB-4BB8-A43B-EA8B2C0C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DEEC-D23E-4A42-9D65-81A2C21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A49-D2A2-4AD8-8F1F-B240C71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2990-98ED-4DB4-A6A2-4003FFA4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EEE0-2D18-4C45-AC36-805BD2C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0C25-7A34-442B-8B20-98F9AE2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B68B-4774-4E9A-8EE5-D985B53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B123-9AC7-490E-855A-CC5604D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5707-E6EF-4F35-B868-AE228447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EB0F-2B1E-42CA-BD87-ADE5513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6FB2-84B6-424A-8B98-6E7EED96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E30A-9A97-49A1-B2F2-D7FFC4A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4A2E-BFE5-4493-8894-9D462D2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59F-84D3-46A6-A2EC-CF221988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B2C4-D893-401F-ACC5-0915E9F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920C-37CA-4769-B3B2-5A32A5EE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DC37-3428-48C6-B4EC-0B3C96F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C4B5-2BFD-42BB-86C4-036A551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320D-BF7E-4E4C-880E-289CCA1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8610-0D65-460B-A728-BE8A791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CA47-B925-4F78-88FB-94910BE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9B89-3B2E-40D9-96DE-70405D22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83C2-BFA7-4E2E-8E4F-3602A277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6AA25-1425-4635-A957-3321AC6D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060-B14B-4FC8-B73F-EDB61D2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9602-E781-49CF-9D7B-BA7587DD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FDE7-74CF-41AD-9BB4-62BBF55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08CC0-EBDF-455D-BC44-AF966F2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3984-4CB1-42FA-A5C9-DA43DEB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426B0-6BE9-4D87-8177-1C3FD0E4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3FA0-654E-4C75-BDF6-09506D0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5355-FEED-4363-AD35-6DFFD334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EB4A-25C1-42EB-B903-05C40C4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92A5-6BEE-4012-924C-3911988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A626-7E7E-4D2B-8822-46912630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2AA-26A6-44A2-840E-EF7C0CC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75B2-EA0E-4D5B-8037-23A79E2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B862-957F-48B2-8F6B-7C8B51F5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A44D-2EE6-4CB9-AC1B-866C8BB6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A92A-6FD1-408B-B225-10B31FC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D9A9B-C2EE-453F-B054-6E732C2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272F-FA7E-435F-9FC5-611703F3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85026-6CB1-4E8F-B5FC-10A614E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1D869-D469-430B-A440-88AF3A5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C415-1FC6-404F-8D2C-5818FA6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FB54-F3B4-4E86-B04A-AF2F86E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AA9-923D-408F-B2CB-6D476B7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6E07-0E5A-4BC2-84C5-466F8A6A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BBBA-F2E9-4EC9-A18C-9245B6E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94CA-35E7-41B5-9A04-BAE3AD0A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1772-2F64-4AF3-85A9-0DF8CBD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AC8DC-181F-43B5-B5F4-501134F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B7202-6EA0-4D90-95B7-5A71F999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DDB1-70BE-40DA-A356-5EA963A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D98A7-C64A-4BB5-BACD-3B43867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EF83-A83C-49CE-BE52-16D26DF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5AD23-47F0-425C-B088-8ECC689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40C-695E-436D-AEBC-A3681E4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9C6C-BE76-4C57-BB13-D7E2692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8A45-AB6E-499E-9ED2-3FB397B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B813-2DF3-4F50-B097-7BB1DB8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6F3A-89D5-45D3-999F-BBFCD2C5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166E-F00C-4D9A-A2F3-51BC27BD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5A6-DDCA-4909-AE8A-7A1FEB5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Николь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25 и на плановый период 2026 и 2027 г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Бюджет  для граждан на 2025 год и на плановый период 2026 и 2027 годов подготовлен  на основании Решения Совета депутатов Никольского сельского поселения №207 от 26.12.2024г.  «О бюджете Никольского сельского поселения Торбеевского муниципального района Республики Мордовия на 2025 год и на плановый период 2026 и 2027 годов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БЮДЖЕТА ПОСЕЛЕНИЯ НА 2025  ГОД И НА ПЛАНОВЫЙ ПЕРИОД 2026 И 2027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БЮДЖЕТА НИКОЛЬСКОГО СЕЛЬСКОГО ПОСЕЛЕНИЯ ТОРБЕЕВСКОГО МУНИЦИПАЛЬНОГО РАЙОНА РЕСПУБЛИКИ МОРДОВИ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5 ГОД И НА ПЛАНОВЫЙ ПЕРИОД 2026 И 2027 ГОДОВ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Объект 2"/>
          <p:cNvGraphicFramePr/>
          <p:nvPr/>
        </p:nvGraphicFramePr>
        <p:xfrm>
          <a:off x="2219400" y="2011320"/>
          <a:ext cx="456228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011320"/>
                    <a:ext cx="45622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50920" y="2290680"/>
          <a:ext cx="8569080" cy="3875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муниципаль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НИК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НА 2025 ГОД И НА ПЛАНОВЫЙ ПЕРИОД 2026 И 202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3"/>
          <p:cNvSpPr/>
          <p:nvPr/>
        </p:nvSpPr>
        <p:spPr>
          <a:xfrm>
            <a:off x="324360" y="618480"/>
            <a:ext cx="87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НИКОЛЬ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01680" y="2141640"/>
          <a:ext cx="8569440" cy="34606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нина Галина Алекс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3, Республика Мордовия, Торбеевский район, с. Никольское, ул. Центральная, д. 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1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kolsk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0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1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Николь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12-28T06:52:00Z</dcterms:modified>
  <cp:revision>623</cp:revision>
  <dc:subject/>
  <dc:title>ИЖМОРСКИЙ МУНИЦИПАЛЬНЫЙ РАЙОН</dc:title>
</cp:coreProperties>
</file>