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0CD-4D9F-4317-B8D1-AE04931C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233-8EB7-43CC-B424-3C35326E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E38-3FE5-44EA-928A-D46B2891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A84-D3DD-458B-844B-668447B8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B9C3-9582-4BD4-835D-E8DFCA48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B6AB-8D93-48DE-888D-BED7E230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B4BB-A46B-43A6-A20A-246F5380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DD8B-F4CD-4C26-8332-078DE16D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A7FF-50E9-4544-9E29-37B473C5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16B7-99EB-4B66-9D6A-3EC0D0F7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9F91-0371-472A-83BD-BE4BAAF5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EF1-5ABF-415B-886D-F3AB9F4A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41B4-0EAF-4CB0-A807-F63A5CA4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F193-8092-4DCB-84FB-A81908BD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BA6A-24AC-47B9-BEA2-35BD31BD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1D03-FAA8-4A8C-A06E-E43FE1FE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4EC2-DCD1-46CA-857A-7649E822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A8C5B-A994-4BEE-B85F-916D9A30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C33B2-9514-42BB-9142-0B6B8A2D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BF574-CF99-4321-8DC3-6269F3AD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F189-1186-4B8D-A708-02E8075C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2B03-9789-46F7-9AC6-28EF32BB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446-2036-4B02-B661-82D97B13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956F-62F7-46EF-A26C-07787188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3E6A-79EE-4118-8464-851C3064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D1AA3-AAED-46A4-BC52-FAEEE239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FAB73-D4D1-4DD1-888C-A4434A0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0AFE5-1B71-4D71-82EB-8CCF241C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67CC-1D77-48DE-9AF0-6333FBE9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A676-5A9E-497E-B049-E756AA49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62EE-63F3-463F-B172-85B47F71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0A5FB-E253-44DD-B51C-F46A92C5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01C9-9BB4-4565-83DA-DFBF2BAF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AF2-10E8-4A1B-B4D4-0933B453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B8EBC-D019-4EDC-A3A8-7BDEB722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28A0D-98D8-4FF6-8F39-E6B1259D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FB0FA-6381-444F-99EE-B0860DF3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BFD5-50D1-4882-B6C1-81682E0F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61140-9788-4E3D-A519-C8492422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C73F-7AC2-457C-B5DD-80A3530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8C8B-253A-43C4-B14D-DFE17B2A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B8C6-3FEA-4E93-BCFA-D9C2ECB0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25702-1114-4B89-AB12-D30239B5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FFEBF-5D66-41AB-9A00-C0775446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6FC-6FDE-48F9-98AC-07EC2E1E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47E67-4504-4A0D-85F5-477A3778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16083-5AE3-4A48-B275-7D351C6C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8EA59-9B0D-407F-9947-CB84C188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226FC-E6C4-4F0F-82D7-B1F40E3B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4A660-D4A5-4F21-BAEB-DD2E18BD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A64DD-36AC-4629-928A-AAD2DDAF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EE42-A28A-4F08-9684-D5A27BA0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73F3F-CBCD-44DF-B706-C96FEF64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51FFB-3D50-4E2C-889C-D7D3A9BC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0B665-1CB5-4B79-BA54-A576D964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2F6-0104-44C2-861E-E31DD5D1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210B4-DC93-42AB-8397-A613DAFE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57480-5D69-4182-8BB3-21E1C0CE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E3908-B13B-4A98-8DEB-35D21674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5A2A-8AA1-483A-B1FB-5CE78CC3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EA2A1-E0B7-4AEB-B4F3-DE55E227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E8F13-7600-49FF-80E5-93BEB7AC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60001-1473-4010-A752-562A0203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F79A7-0AE5-4451-BC26-D02A44BC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6250F-9256-43BB-A335-9B4635CD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25C2C-A9AE-4582-81F6-ECC6D66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7F4-3514-4754-968D-97037FCE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8843C-8AD8-4208-8E37-A92FBB7E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7F812-F50B-4816-A458-620429B4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6784B-400A-4D69-A26B-57270462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02A22-88B5-44D3-ADE9-6BCB9EBB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7B75C-6558-4C93-BD9B-2D5543A2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5082B-BCFD-46E2-8AE1-2A1CC9C8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C5225-99AC-44F5-8907-F8538688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A7B24-2609-4CF2-AB99-CD7ABFA8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CC899-F2BD-4F44-AD69-C243871E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5C192-0B6D-4959-BF89-9D63E8B7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EFD-EFC0-4DF6-BD4A-551D094E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1918B-EA0E-45D8-8167-6D44E0A2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C3DAA-12A8-4C33-B272-E22926FC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ABAEC-5549-469E-A1D8-EC170E97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1B9BD-0717-48F2-9F23-ABC0A2F4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59187-005E-4390-AC51-CB4A1EC3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FFB-2595-4605-879F-2BACE1A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Николь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1 полугодие 2023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Исполнение бюджета  для граждан за 1 полугодие 2023 года подготовлен  на основании Постановления Администрации Никольского сельского поселения №42   от 17.07.2023 г.  «Об исполнении бюджета Никольского сельского поселения Торбеевского муниципального района Республики Мордовия за 1 полугодие 2023 года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ЧЕТ ОБ ИСПОЛНЕНИИ БЮДЖЕТ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ИСПОЛНЕНИЯ БЮДЖЕТА ПОСЕЛЕНИЯ ЗА 1 ПОЛУГОДИЕ 202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273672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1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(-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ИСПОЛНЕНИЯ БЮДЖЕТА НИКОЛЬСКОГО СЕЛЬСКОГО ПОСЕЛЕНИЯ ТОРБЕЕВСКОГО МУНИЦИПАЛЬНОГО РАЙОНА РЕСПУБЛИКИ МОРДОВИЯ З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 ПОЛУГОД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3 ГОДА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12400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Объект 2"/>
          <p:cNvGraphicFramePr/>
          <p:nvPr/>
        </p:nvGraphicFramePr>
        <p:xfrm>
          <a:off x="2340000" y="1982880"/>
          <a:ext cx="5172120" cy="41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82880"/>
                    <a:ext cx="51721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392040" y="1822320"/>
          <a:ext cx="8569440" cy="346392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24"/>
          <p:cNvSpPr/>
          <p:nvPr/>
        </p:nvSpPr>
        <p:spPr>
          <a:xfrm>
            <a:off x="1187280" y="274320"/>
            <a:ext cx="697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НИКОЛЬ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ЗА 1 ПОЛУГОДИЕ 202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6783480" y="14526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3"/>
          <p:cNvSpPr/>
          <p:nvPr/>
        </p:nvSpPr>
        <p:spPr>
          <a:xfrm>
            <a:off x="324360" y="618480"/>
            <a:ext cx="87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НИКОЛЬ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1680" y="2141640"/>
          <a:ext cx="8569440" cy="376704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яющий обязанности главы Аганина Галина Алексе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3, Республика Мордовия, Торбеевский район, с. Никольское, ул. Центральная, д. 12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51-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kolsk@yande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5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6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Николь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User</cp:lastModifiedBy>
  <cp:lastPrinted>2015-12-24T07:26:25Z</cp:lastPrinted>
  <dcterms:modified xsi:type="dcterms:W3CDTF">2023-07-18T13:51:13Z</dcterms:modified>
  <cp:revision>646</cp:revision>
  <dc:subject/>
  <dc:title>ИЖМОРСКИЙ МУНИЦИПАЛЬНЫЙ РАЙОН</dc:title>
</cp:coreProperties>
</file>